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86B0-4FA8-46B0-A987-422BA839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6E1-1F2D-4254-87E2-26DADBDC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C730-FCAF-405E-B4AC-6D12E9D7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EED-F503-44A1-A408-836968E6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E03B-384E-4001-B3F6-411634D0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7229-C854-497F-AD1E-12BEACD5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4D1E-8D59-4963-B2C1-4534E5ED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6954-A130-4E02-BD74-2F9A4670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8431-68E7-4EEF-AD8B-5433020E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E3A2-A067-4D7D-985E-9B575973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661C-84A5-4805-92C7-7646DB70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BA7-7784-40C8-9FEC-610CD480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B953-6AAA-4085-ADB7-7D33C23D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C0F7-50C9-454A-9D22-B9AD21D4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0B17-7C42-4F03-8452-F10EDB93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188D-858E-4D95-8DF2-2011476D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2943-839E-457B-BC4B-36028A68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6AC-8808-4CBE-8055-2448494D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154-A3A1-418F-A281-9C296C38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AC1E-CB5A-4FF5-8AF1-84333B91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01E-5005-456D-A410-F862964B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B57C-9B9B-42FA-BF84-F8AB3E1C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024B-4F38-4215-BA16-B22379A2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5A3-9DB9-49D9-8497-78F40946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4D51-2AED-414A-AD3C-76E48B22C79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81FB-9C56-4255-8E91-C92D11CD15B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apter 14: Forging the National Economy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790-18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Industrial Revolution Begi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al Revolution, Eng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 slow to embrace Industrial Re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il was cheap (easier to grow crops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or was scarce (until immigrants, 1840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umers were sca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tish monopoly on texti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324480" y="4724280"/>
            <a:ext cx="255276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estward Movemen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e of Andrew Jack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fe of a pioneer was gr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gged Individualism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57200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haping Western Landsca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r-trapp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e for manufactured goods from the e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eorge Catlin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inter &amp; student of Native American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osed creation of national pa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llowstone, 187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048440" y="4219560"/>
            <a:ext cx="20955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rch of the Mill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tion doubling every 25 yea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1860, 33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st populous country in western worl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0" y="3657600"/>
            <a:ext cx="50007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rch of the Million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sirable by-produc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elly slu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adequate polic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ure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l sewa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ropean immigrants came to America (GERMAN, IRISH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rope over-crowd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 of freedom &amp; opportunity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reland Moves Wes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40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ato Fam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ston, New Yor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man Catholic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 skill occupations, horrible living condi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ted by native workers of factor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gued &amp; fought w/ African Americ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335268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rman Forty-Eigh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30-1860 (1848: fail of democratic revolutions in Germany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rooted farmers (Crop failure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 important politically; scatt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ulated art, music &amp; cul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educated than Americ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posed sla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648480" y="4800600"/>
            <a:ext cx="24955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ti-Foreign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vis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ared immigrants would outbreed, outvote &amp; overwhelm the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trictions on immigration &amp; naturaliz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tholics vs. Protesta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 violence- Irish Cathol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iladelphia, 18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 was becoming more ethnically &amp; racially varied/diver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now-Nothing Party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der of the Star Spangled Ban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v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me derived from its secretiven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- immigr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- Roman Catholi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895480" y="4610160"/>
            <a:ext cx="30006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4:00:05Z</dcterms:created>
  <dc:creator>emily.johnson</dc:creator>
  <dc:description/>
  <dc:language>en-US</dc:language>
  <cp:lastModifiedBy>emily.johnson</cp:lastModifiedBy>
  <dcterms:modified xsi:type="dcterms:W3CDTF">2012-11-08T21:16:07Z</dcterms:modified>
  <cp:revision>4</cp:revision>
  <dc:subject/>
  <dc:title>Chapter 14: Forging the National Economy </dc:title>
</cp:coreProperties>
</file>